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231-62DC-4A34-8A1E-839E30D5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C8E-E3B8-4A94-91C8-B3BFC7BF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691-F342-47A8-96FE-83CF01C8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5BB-5303-4DA7-95C2-E1BE532C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E9C-4559-4179-9BF7-AA246DC7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D76-2E1E-4579-8B27-F38B43EC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59A-DEAD-461F-9BBF-2C05C924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997-4B71-48A1-BE15-371546F8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2F5-D5B4-4507-BCFE-00EB8328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8EC-8C8D-47CD-9FF4-D987E9AA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AB5-4CA2-48F3-AF22-075D446C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BAD-3109-41E4-A9C9-9BA5B2B4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CC87-F2CB-4878-9AFC-F1DC93B8E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760" y="60948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erlin Sans FB Demi"/>
              </a:rPr>
              <a:t>Surface Area of a Cylind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5257800"/>
            <a:ext cx="289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pton Middle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638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638520" cy="4496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need to calculate the surface area of the top, base and s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2480"/>
            <a:ext cx="228600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and base of the cylinder are both circles which are eq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276720"/>
            <a:ext cx="20574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a circle = </a:t>
            </a:r>
            <a:r>
              <a:rPr b="0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9810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648320"/>
            <a:ext cx="2361960" cy="14770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and base can be written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= 2(</a:t>
            </a:r>
            <a:r>
              <a:rPr b="1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we were to “unwrap” the sides of the cylinder, it would be a rect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277524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16200000">
            <a:off x="5067000" y="1333440"/>
            <a:ext cx="3276720" cy="3809880"/>
          </a:xfrm>
          <a:prstGeom prst="flowChartOnlineStorag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523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82400" y="309708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876920"/>
            <a:ext cx="6248520" cy="7855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lready know that the area of a rectangle is L X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is case the width i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cyli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66748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ngth of the rectangle is actually the circumference of the cyl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6216480"/>
            <a:ext cx="556272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So: A of the sides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 two formula together and the area of a cylinder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91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=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(</a:t>
            </a:r>
            <a:r>
              <a:rPr b="1" lang="el-GR" sz="3600" spc="-1" strike="noStrike">
                <a:solidFill>
                  <a:srgbClr val="ff0000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</a:rPr>
              <a:t>r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 Unicode MS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1" lang="en-US" sz="3600" spc="-1" strike="noStrike">
                <a:solidFill>
                  <a:srgbClr val="0000ff"/>
                </a:solidFill>
                <a:latin typeface="Arial Unicode MS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ff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0000ff"/>
                </a:solidFill>
                <a:latin typeface="Arial Unicode MS"/>
              </a:rPr>
              <a:t>r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277488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9880" y="4495680"/>
            <a:ext cx="15242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828800" y="3047760"/>
            <a:ext cx="35053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4724280"/>
            <a:ext cx="358128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6248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2971800"/>
            <a:ext cx="3808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971800"/>
            <a:ext cx="30492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Try It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urface area of the following cylin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2514600"/>
            <a:ext cx="2895840" cy="342900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89548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2971800"/>
            <a:ext cx="0" cy="2590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2514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81080"/>
            <a:ext cx="59436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write out the formula of the area of a cyl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733920"/>
            <a:ext cx="38862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parts of the cylinder that you need for the for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57200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10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= 1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1" lang="en-US" sz="20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91320"/>
            <a:ext cx="350532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substitutions into the formula and sol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5881680"/>
            <a:ext cx="50292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(</a:t>
            </a:r>
            <a:r>
              <a:rPr b="1" lang="el-GR" sz="2800" spc="-1" strike="noStrike">
                <a:solidFill>
                  <a:srgbClr val="ff0000"/>
                </a:solidFill>
                <a:latin typeface="Brush Script MT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00ff"/>
                </a:solidFill>
                <a:latin typeface="Brush Script MT"/>
              </a:rPr>
              <a:t>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(3.14)(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(3.14)(10)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97180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(</a:t>
            </a:r>
            <a:r>
              <a:rPr b="1" lang="el-GR" sz="2800" spc="-1" strike="noStrike">
                <a:solidFill>
                  <a:srgbClr val="ff0000"/>
                </a:solidFill>
                <a:latin typeface="Brush Script MT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00ff"/>
                </a:solidFill>
                <a:latin typeface="Brush Script MT"/>
              </a:rPr>
              <a:t>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 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(</a:t>
            </a:r>
            <a:r>
              <a:rPr b="1" lang="el-GR" sz="4000" spc="-1" strike="noStrike">
                <a:solidFill>
                  <a:srgbClr val="ff0000"/>
                </a:solidFill>
                <a:latin typeface="Brush Script MT"/>
              </a:rPr>
              <a:t>π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l-GR" sz="4000" spc="-1" strike="noStrike">
                <a:solidFill>
                  <a:srgbClr val="0000ff"/>
                </a:solidFill>
                <a:latin typeface="Brush Script MT"/>
              </a:rPr>
              <a:t>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h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(3.14)(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(3.14)(10)(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200400" y="13716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13716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6668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6668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505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28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6668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572000"/>
            <a:ext cx="2057400" cy="5814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70 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urface Area of the Cyl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286000"/>
            <a:ext cx="1676520" cy="396252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8195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 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514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c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urface Area of the Cylinder (careful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438280"/>
            <a:ext cx="5562720" cy="205740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2666880"/>
            <a:ext cx="54864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 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274320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SenteoPPTControl1"/>
          <p:cNvGraphicFramePr/>
          <p:nvPr/>
        </p:nvGraphicFramePr>
        <p:xfrm>
          <a:off x="6413400" y="4952880"/>
          <a:ext cx="273060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SenteoPPTControl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13400" y="4952880"/>
                    <a:ext cx="2730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5:32:45Z</dcterms:created>
  <dc:creator>admin</dc:creator>
  <dc:description/>
  <dc:language>en-US</dc:language>
  <cp:lastModifiedBy>admin</cp:lastModifiedBy>
  <dcterms:modified xsi:type="dcterms:W3CDTF">2008-04-28T01:30:12Z</dcterms:modified>
  <cp:revision>8</cp:revision>
  <dc:subject/>
  <dc:title>Surface Area of a Cylinder </dc:title>
</cp:coreProperties>
</file>